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964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5249-3B5D-4F2A-9ED4-C42775D8C54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 in Detail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6" idx="0"/>
            <a:endCxn id="218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21" idx="0"/>
            <a:endCxn id="222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4"/>
            <a:endCxn id="215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21" idx="2"/>
            <a:endCxn id="223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21" idx="3"/>
            <a:endCxn id="231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4" name="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16" idx="3"/>
            <a:endCxn id="236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38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9" idx="2"/>
            <a:endCxn id="240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1080" y="1098360"/>
            <a:ext cx="867564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1’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2'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1'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‘Start Node’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‘End Node’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OGICAL ('PINNED', $, .F., .U., .F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3 = BOUNDARY_CONDITION_LOGICAL ('FREE', $, .T., .U., .T., .U., .T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OGICAL ('FIXED END', $, .F., .U., .F., .U., .F., .U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009800" y="119232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19232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9" idx="3"/>
            <a:endCxn id="25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53" name="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61" name="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65" name="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69" name="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97" name="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307" name="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318" name="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324" name="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3" idx="3"/>
            <a:endCxn id="335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37" name="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44" name="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6" idx="2"/>
            <a:endCxn id="345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6" idx="2"/>
            <a:endCxn id="349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52" name="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55" name="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>
            <a:stCxn id="346" idx="2"/>
            <a:endCxn id="356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58" name="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59" name="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1" name=""/>
          <p:cNvCxnSpPr>
            <a:stCxn id="346" idx="2"/>
            <a:endCxn id="360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6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66" name="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2"/>
            <a:endCxn id="367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75" name="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7" name=""/>
          <p:cNvCxnSpPr>
            <a:stCxn id="378" idx="2"/>
            <a:endCxn id="376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79" name="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80" name="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2" name=""/>
          <p:cNvCxnSpPr>
            <a:stCxn id="378" idx="2"/>
            <a:endCxn id="381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84" name="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6" name=""/>
          <p:cNvCxnSpPr>
            <a:stCxn id="387" idx="2"/>
            <a:endCxn id="385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0" name=""/>
          <p:cNvCxnSpPr>
            <a:stCxn id="375" idx="3"/>
            <a:endCxn id="372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80" idx="3"/>
            <a:endCxn id="389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95" name="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8" name=""/>
          <p:cNvCxnSpPr>
            <a:stCxn id="393" idx="2"/>
            <a:endCxn id="396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80560"/>
            <a:ext cx="8572320" cy="552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POSITIVE_ LENGTH_MEASURE_WITH_UNIT (POSITIVE_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POSITIVE_ LENGTH_MEASURE_WITH_UNIT (POSITIVE_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positive_length_measure_with_uni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414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7" name=""/>
          <p:cNvCxnSpPr>
            <a:endCxn id="415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4" idx="3"/>
            <a:endCxn id="419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12" idx="1"/>
            <a:endCxn id="423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6408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11800" y="2432160"/>
            <a:ext cx="23187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7" idx="2"/>
            <a:endCxn id="428" idx="0"/>
          </p:cNvCxnSpPr>
          <p:nvPr/>
        </p:nvCxnSpPr>
        <p:spPr>
          <a:xfrm rot="5400000">
            <a:off x="4374720" y="1233360"/>
            <a:ext cx="354600" cy="158976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840600" y="57722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52360" y="5586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14600" y="57722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35" idx="2"/>
            <a:endCxn id="432" idx="0"/>
          </p:cNvCxnSpPr>
          <p:nvPr/>
        </p:nvCxnSpPr>
        <p:spPr>
          <a:xfrm>
            <a:off x="1220760" y="515592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8" name=""/>
          <p:cNvCxnSpPr>
            <a:stCxn id="418" idx="1"/>
            <a:endCxn id="436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13560" y="474660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66760" y="3263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22" idx="2"/>
            <a:endCxn id="439" idx="0"/>
          </p:cNvCxnSpPr>
          <p:nvPr/>
        </p:nvCxnSpPr>
        <p:spPr>
          <a:xfrm flipH="1" rot="16200000">
            <a:off x="550800" y="2558160"/>
            <a:ext cx="1380240" cy="3960"/>
          </a:xfrm>
          <a:prstGeom prst="bentConnector3">
            <a:avLst>
              <a:gd name="adj1" fmla="val 49934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42" name="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43" name="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-360 w 1335240"/>
                <a:gd name="textAreaRight" fmla="*/ 1335240 w 1335240"/>
                <a:gd name="textAreaTop" fmla="*/ -360 h 939960"/>
                <a:gd name="textAreaBottom" fmla="*/ 93996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497" stAng="10800000" swAng="5400000"/>
                  <a:lnTo>
                    <a:pt x="12610" y="2663"/>
                  </a:lnTo>
                  <a:lnTo>
                    <a:pt x="12610" y="0"/>
                  </a:lnTo>
                  <a:lnTo>
                    <a:pt x="21600" y="6079"/>
                  </a:lnTo>
                  <a:lnTo>
                    <a:pt x="12610" y="12158"/>
                  </a:lnTo>
                  <a:lnTo>
                    <a:pt x="12610" y="9495"/>
                  </a:lnTo>
                  <a:lnTo>
                    <a:pt x="12427" y="9495"/>
                  </a:lnTo>
                  <a:arcTo wR="5595" hR="2665" stAng="16200000" swAng="-5400000"/>
                  <a:lnTo>
                    <a:pt x="6832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0 w 1633680"/>
                <a:gd name="textAreaRight" fmla="*/ 1634040 w 1633680"/>
                <a:gd name="textAreaTop" fmla="*/ 0 h 1112760"/>
                <a:gd name="textAreaBottom" fmla="*/ 111276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709" stAng="10800000" swAng="5400000"/>
                  <a:lnTo>
                    <a:pt x="16520" y="3451"/>
                  </a:lnTo>
                  <a:lnTo>
                    <a:pt x="16520" y="0"/>
                  </a:lnTo>
                  <a:lnTo>
                    <a:pt x="21600" y="6079"/>
                  </a:lnTo>
                  <a:lnTo>
                    <a:pt x="16520" y="12158"/>
                  </a:lnTo>
                  <a:lnTo>
                    <a:pt x="16520" y="8707"/>
                  </a:lnTo>
                  <a:lnTo>
                    <a:pt x="12427" y="8707"/>
                  </a:lnTo>
                  <a:arcTo wR="7171" hR="3453" stAng="16200000" swAng="-5400000"/>
                  <a:lnTo>
                    <a:pt x="5256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50" name="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54" name="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57" name=""/>
          <p:cNvCxnSpPr>
            <a:stCxn id="446" idx="1"/>
            <a:endCxn id="450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46" idx="2"/>
            <a:endCxn id="454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18" idx="2"/>
            <a:endCxn id="447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370440" y="3449520"/>
            <a:ext cx="1700280" cy="64260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52360" y="4575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1" idx="2"/>
            <a:endCxn id="462" idx="0"/>
          </p:cNvCxnSpPr>
          <p:nvPr/>
        </p:nvCxnSpPr>
        <p:spPr>
          <a:xfrm>
            <a:off x="1220760" y="4133880"/>
            <a:ext cx="8640" cy="427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2b2b2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66" idx="3"/>
            <a:endCxn id="469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1, 'W14x16x500', 'Wide flange beam to ASTM', 'Plastic', $, #202, #203, #204, #205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INERTIA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INERTIA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MODULUS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MODULUS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7" idx="2"/>
            <a:endCxn id="478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2" idx="1"/>
            <a:endCxn id="483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77" idx="2"/>
            <a:endCxn id="487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85" idx="0"/>
            <a:endCxn id="49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500" idx="2"/>
            <a:endCxn id="497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4" idx="2"/>
            <a:endCxn id="501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9" idx="2"/>
            <a:endCxn id="505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512" name="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516" name="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08" idx="1"/>
            <a:endCxn id="512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08" idx="2"/>
            <a:endCxn id="516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523" idx="2"/>
            <a:endCxn id="509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6" name=""/>
          <p:cNvCxnSpPr>
            <a:stCxn id="494" idx="1"/>
            <a:endCxn id="524" idx="6"/>
          </p:cNvCxnSpPr>
          <p:nvPr/>
        </p:nvCxnSpPr>
        <p:spPr>
          <a:xfrm rot="10800000">
            <a:off x="4029120" y="437400"/>
            <a:ext cx="603720" cy="1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485" idx="1"/>
            <a:endCxn id="47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8" name="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9" idx="6"/>
            <a:endCxn id="494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endCxn id="532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35" idx="2"/>
            <a:endCxn id="536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37" name="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538" name="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1" name=""/>
          <p:cNvCxnSpPr>
            <a:stCxn id="482" idx="2"/>
            <a:endCxn id="539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535" name="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523" name="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8" name=""/>
          <p:cNvCxnSpPr>
            <a:stCxn id="547" idx="2"/>
            <a:endCxn id="549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08" idx="3"/>
            <a:endCxn id="549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49" name="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56" name="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8" name=""/>
          <p:cNvCxnSpPr>
            <a:stCxn id="557" idx="6"/>
            <a:endCxn id="535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59" name="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60" name="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62" name=""/>
          <p:cNvCxnSpPr>
            <a:stCxn id="561" idx="6"/>
            <a:endCxn id="535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7" idx="2"/>
            <a:endCxn id="568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71" idx="1"/>
            <a:endCxn id="572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67" idx="2"/>
            <a:endCxn id="576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74" idx="0"/>
            <a:endCxn id="582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85" name="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8" name=""/>
          <p:cNvCxnSpPr>
            <a:stCxn id="589" idx="2"/>
            <a:endCxn id="586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90" name="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91" name="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3" name=""/>
          <p:cNvCxnSpPr>
            <a:stCxn id="594" idx="2"/>
            <a:endCxn id="595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89" name="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"/>
          <p:cNvCxnSpPr>
            <a:stCxn id="578" idx="2"/>
            <a:endCxn id="59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9" name="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0" name=""/>
          <p:cNvCxnSpPr>
            <a:stCxn id="599" idx="0"/>
            <a:endCxn id="574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01" name="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2" name=""/>
          <p:cNvCxnSpPr>
            <a:stCxn id="594" idx="1"/>
            <a:endCxn id="591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3" name="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574" idx="1"/>
            <a:endCxn id="565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06" name=""/>
          <p:cNvCxnSpPr>
            <a:stCxn id="603" idx="4"/>
            <a:endCxn id="574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07" name=""/>
          <p:cNvCxnSpPr>
            <a:stCxn id="574" idx="3"/>
            <a:endCxn id="608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09" name="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>
            <a:stCxn id="611" idx="2"/>
            <a:endCxn id="612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13" name="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614" name="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7" name=""/>
          <p:cNvCxnSpPr>
            <a:stCxn id="571" idx="2"/>
            <a:endCxn id="615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18" name="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67" name="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71" name="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611" name="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4" name=""/>
          <p:cNvCxnSpPr>
            <a:stCxn id="625" idx="2"/>
            <a:endCxn id="626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627" name="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628" name="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94" name="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626" name="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5" name=""/>
          <p:cNvCxnSpPr>
            <a:stCxn id="599" idx="2"/>
            <a:endCxn id="632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art 21 insta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/* Passed by reference */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1 = ITEM_REFERENCE_STANDARD ('W1100X424', #302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2 = ITEM_REF_SOURCE_STANDARD ('ASTM', 'ASTM_A6M', 1994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3 = SECTION_PROFILE (2, 'W', 'Wide flange beam to ASTM', 'Plastic', $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304 = ITEM_REFERENCE_ASSIGNED (#301, #303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41" name="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44" idx="2"/>
            <a:endCxn id="642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46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50" name="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53" idx="2"/>
            <a:endCxn id="651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55" name="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"/>
          <p:cNvCxnSpPr>
            <a:stCxn id="653" idx="2"/>
            <a:endCxn id="656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3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59" name="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1" name=""/>
          <p:cNvCxnSpPr>
            <a:stCxn id="662" idx="3"/>
            <a:endCxn id="660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63" name=""/>
          <p:cNvCxnSpPr>
            <a:stCxn id="655" idx="3"/>
            <a:endCxn id="647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62" name="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8" name=""/>
          <p:cNvCxnSpPr>
            <a:stCxn id="664" idx="2"/>
            <a:endCxn id="667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9" name="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70" name="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64" idx="2"/>
            <a:endCxn id="671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7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50" idx="3"/>
            <a:endCxn id="677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4" name=""/>
          <p:cNvCxnSpPr>
            <a:stCxn id="685" idx="0"/>
            <a:endCxn id="680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8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90" name="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93" idx="2"/>
            <a:endCxn id="69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5" name="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99" name="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1" name=""/>
          <p:cNvCxnSpPr>
            <a:stCxn id="702" idx="2"/>
            <a:endCxn id="70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03" name="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704" name="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"/>
          <p:cNvCxnSpPr>
            <a:stCxn id="702" idx="2"/>
            <a:endCxn id="70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02" name="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4" idx="3"/>
            <a:endCxn id="696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712" name="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5" name=""/>
          <p:cNvCxnSpPr>
            <a:stCxn id="699" idx="3"/>
            <a:endCxn id="712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719" name="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4920" y="1609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256860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sign -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101" name="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4" name="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6" name=""/>
          <p:cNvCxnSpPr>
            <a:stCxn id="99" idx="2"/>
            <a:endCxn id="10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9" idx="2"/>
            <a:endCxn id="10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1" idx="0"/>
            <a:endCxn id="11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10" idx="0"/>
            <a:endCxn id="11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9" idx="0"/>
            <a:endCxn id="12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6" idx="0"/>
            <a:endCxn id="12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13" idx="0"/>
            <a:endCxn id="12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17" idx="0"/>
            <a:endCxn id="13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7" name="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4597"/>
              <a:gd name="adj2" fmla="val 87171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730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hysical 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88000" y="1797120"/>
            <a:ext cx="321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_accid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5000" y="110484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5" idx="2"/>
            <a:endCxn id="734" idx="2"/>
          </p:cNvCxnSpPr>
          <p:nvPr/>
        </p:nvCxnSpPr>
        <p:spPr>
          <a:xfrm flipH="1" rot="16200000">
            <a:off x="1311480" y="1509480"/>
            <a:ext cx="477000" cy="546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838160" y="2359080"/>
            <a:ext cx="3153600" cy="398880"/>
            <a:chOff x="1838160" y="2359080"/>
            <a:chExt cx="3153600" cy="398880"/>
          </a:xfrm>
        </p:grpSpPr>
        <p:sp>
          <p:nvSpPr>
            <p:cNvPr id="739" name=""/>
            <p:cNvSpPr/>
            <p:nvPr/>
          </p:nvSpPr>
          <p:spPr>
            <a:xfrm>
              <a:off x="2075400" y="2359080"/>
              <a:ext cx="2916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seis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38160" y="24908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1" name=""/>
          <p:cNvCxnSpPr>
            <a:stCxn id="735" idx="2"/>
            <a:endCxn id="740" idx="2"/>
          </p:cNvCxnSpPr>
          <p:nvPr/>
        </p:nvCxnSpPr>
        <p:spPr>
          <a:xfrm flipH="1" rot="16200000">
            <a:off x="1023120" y="1798560"/>
            <a:ext cx="104040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1838160" y="2906640"/>
            <a:ext cx="3519720" cy="398880"/>
            <a:chOff x="1838160" y="2906640"/>
            <a:chExt cx="3519720" cy="398880"/>
          </a:xfrm>
        </p:grpSpPr>
        <p:sp>
          <p:nvSpPr>
            <p:cNvPr id="743" name=""/>
            <p:cNvSpPr/>
            <p:nvPr/>
          </p:nvSpPr>
          <p:spPr>
            <a:xfrm>
              <a:off x="2074320" y="2906640"/>
              <a:ext cx="3283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perman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38160" y="3038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35" idx="2"/>
            <a:endCxn id="744" idx="2"/>
          </p:cNvCxnSpPr>
          <p:nvPr/>
        </p:nvCxnSpPr>
        <p:spPr>
          <a:xfrm flipH="1" rot="16200000">
            <a:off x="749160" y="2072160"/>
            <a:ext cx="15879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1442880" y="24955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08320" y="396864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272120" y="396864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9" name=""/>
          <p:cNvCxnSpPr>
            <a:stCxn id="733" idx="3"/>
            <a:endCxn id="750" idx="2"/>
          </p:cNvCxnSpPr>
          <p:nvPr/>
        </p:nvCxnSpPr>
        <p:spPr>
          <a:xfrm flipV="1">
            <a:off x="5327280" y="1987200"/>
            <a:ext cx="2151720" cy="23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5698800" y="163044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459320" y="23652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24120" y="3427560"/>
            <a:ext cx="3196080" cy="398880"/>
            <a:chOff x="1824120" y="3427560"/>
            <a:chExt cx="3196080" cy="398880"/>
          </a:xfrm>
        </p:grpSpPr>
        <p:sp>
          <p:nvSpPr>
            <p:cNvPr id="754" name=""/>
            <p:cNvSpPr/>
            <p:nvPr/>
          </p:nvSpPr>
          <p:spPr>
            <a:xfrm>
              <a:off x="2061360" y="3427560"/>
              <a:ext cx="29588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824120" y="35589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744640" y="4133880"/>
            <a:ext cx="4468320" cy="398880"/>
            <a:chOff x="2744640" y="4133880"/>
            <a:chExt cx="4468320" cy="398880"/>
          </a:xfrm>
        </p:grpSpPr>
        <p:sp>
          <p:nvSpPr>
            <p:cNvPr id="757" name=""/>
            <p:cNvSpPr/>
            <p:nvPr/>
          </p:nvSpPr>
          <p:spPr>
            <a:xfrm>
              <a:off x="2980080" y="413388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long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4640" y="4265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9" name=""/>
          <p:cNvCxnSpPr>
            <a:stCxn id="760" idx="2"/>
            <a:endCxn id="758" idx="2"/>
          </p:cNvCxnSpPr>
          <p:nvPr/>
        </p:nvCxnSpPr>
        <p:spPr>
          <a:xfrm flipH="1" rot="16200000">
            <a:off x="2300760" y="394452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61" name=""/>
          <p:cNvGrpSpPr/>
          <p:nvPr/>
        </p:nvGrpSpPr>
        <p:grpSpPr>
          <a:xfrm>
            <a:off x="2744640" y="4668840"/>
            <a:ext cx="4552200" cy="398880"/>
            <a:chOff x="2744640" y="4668840"/>
            <a:chExt cx="4552200" cy="398880"/>
          </a:xfrm>
        </p:grpSpPr>
        <p:sp>
          <p:nvSpPr>
            <p:cNvPr id="762" name=""/>
            <p:cNvSpPr/>
            <p:nvPr/>
          </p:nvSpPr>
          <p:spPr>
            <a:xfrm>
              <a:off x="2978280" y="4668840"/>
              <a:ext cx="4318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short_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44640" y="48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64" name=""/>
          <p:cNvCxnSpPr>
            <a:stCxn id="760" idx="2"/>
            <a:endCxn id="763" idx="2"/>
          </p:cNvCxnSpPr>
          <p:nvPr/>
        </p:nvCxnSpPr>
        <p:spPr>
          <a:xfrm flipH="1" rot="16200000">
            <a:off x="2033280" y="421200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47680" y="3938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65800" y="414036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2744640" y="5187960"/>
            <a:ext cx="4312800" cy="398880"/>
            <a:chOff x="2744640" y="5187960"/>
            <a:chExt cx="4312800" cy="398880"/>
          </a:xfrm>
        </p:grpSpPr>
        <p:sp>
          <p:nvSpPr>
            <p:cNvPr id="769" name=""/>
            <p:cNvSpPr/>
            <p:nvPr/>
          </p:nvSpPr>
          <p:spPr>
            <a:xfrm>
              <a:off x="2979720" y="5187960"/>
              <a:ext cx="4077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hysical_action_variable_trans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744640" y="5319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7493040" y="19112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74120" y="1779480"/>
            <a:ext cx="65556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220240" y="177588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3" name=""/>
          <p:cNvCxnSpPr>
            <a:stCxn id="735" idx="2"/>
            <a:endCxn id="755" idx="2"/>
          </p:cNvCxnSpPr>
          <p:nvPr/>
        </p:nvCxnSpPr>
        <p:spPr>
          <a:xfrm flipH="1" rot="16200000">
            <a:off x="481680" y="2340000"/>
            <a:ext cx="2108880" cy="518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74" name=""/>
          <p:cNvCxnSpPr>
            <a:stCxn id="743" idx="3"/>
            <a:endCxn id="775" idx="2"/>
          </p:cNvCxnSpPr>
          <p:nvPr/>
        </p:nvCxnSpPr>
        <p:spPr>
          <a:xfrm flipV="1">
            <a:off x="5383080" y="3098520"/>
            <a:ext cx="21535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6" name=""/>
          <p:cNvSpPr/>
          <p:nvPr/>
        </p:nvSpPr>
        <p:spPr>
          <a:xfrm>
            <a:off x="5756040" y="274176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ction_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50280" y="3022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731000" y="2890800"/>
            <a:ext cx="655920" cy="395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8277120" y="290160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208240" y="363528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0" idx="2"/>
            <a:endCxn id="770" idx="2"/>
          </p:cNvCxnSpPr>
          <p:nvPr/>
        </p:nvCxnSpPr>
        <p:spPr>
          <a:xfrm flipH="1" rot="16200000">
            <a:off x="1773720" y="447156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pplied Loa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89800" y="1797120"/>
            <a:ext cx="2716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67640" y="110484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3" idx="2"/>
            <a:endCxn id="782" idx="2"/>
          </p:cNvCxnSpPr>
          <p:nvPr/>
        </p:nvCxnSpPr>
        <p:spPr>
          <a:xfrm flipH="1" rot="16200000">
            <a:off x="1314360" y="1510920"/>
            <a:ext cx="47700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777600" y="1612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4262400" y="2892600"/>
            <a:ext cx="3945600" cy="398880"/>
            <a:chOff x="4262400" y="2892600"/>
            <a:chExt cx="3945600" cy="398880"/>
          </a:xfrm>
        </p:grpSpPr>
        <p:sp>
          <p:nvSpPr>
            <p:cNvPr id="787" name=""/>
            <p:cNvSpPr/>
            <p:nvPr/>
          </p:nvSpPr>
          <p:spPr>
            <a:xfrm>
              <a:off x="4499280" y="2892600"/>
              <a:ext cx="3708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262400" y="30240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9" name=""/>
          <p:cNvCxnSpPr>
            <a:stCxn id="781" idx="2"/>
            <a:endCxn id="788" idx="2"/>
          </p:cNvCxnSpPr>
          <p:nvPr/>
        </p:nvCxnSpPr>
        <p:spPr>
          <a:xfrm flipH="1" rot="16200000">
            <a:off x="3399480" y="2284200"/>
            <a:ext cx="88200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0" name=""/>
          <p:cNvGrpSpPr/>
          <p:nvPr/>
        </p:nvGrpSpPr>
        <p:grpSpPr>
          <a:xfrm>
            <a:off x="4262400" y="3440160"/>
            <a:ext cx="4469040" cy="398880"/>
            <a:chOff x="4262400" y="3440160"/>
            <a:chExt cx="4469040" cy="398880"/>
          </a:xfrm>
        </p:grpSpPr>
        <p:sp>
          <p:nvSpPr>
            <p:cNvPr id="791" name=""/>
            <p:cNvSpPr/>
            <p:nvPr/>
          </p:nvSpPr>
          <p:spPr>
            <a:xfrm>
              <a:off x="4498560" y="3440160"/>
              <a:ext cx="4232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dynamic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3571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3" name=""/>
          <p:cNvCxnSpPr>
            <a:stCxn id="781" idx="2"/>
            <a:endCxn id="792" idx="2"/>
          </p:cNvCxnSpPr>
          <p:nvPr/>
        </p:nvCxnSpPr>
        <p:spPr>
          <a:xfrm flipH="1" rot="16200000">
            <a:off x="3125520" y="2557800"/>
            <a:ext cx="1429560" cy="786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4" name=""/>
          <p:cNvSpPr/>
          <p:nvPr/>
        </p:nvSpPr>
        <p:spPr>
          <a:xfrm>
            <a:off x="3867120" y="302904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18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83560" y="289872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93880" y="4048200"/>
            <a:ext cx="2600640" cy="398880"/>
            <a:chOff x="1793880" y="4048200"/>
            <a:chExt cx="2600640" cy="398880"/>
          </a:xfrm>
        </p:grpSpPr>
        <p:sp>
          <p:nvSpPr>
            <p:cNvPr id="799" name=""/>
            <p:cNvSpPr/>
            <p:nvPr/>
          </p:nvSpPr>
          <p:spPr>
            <a:xfrm>
              <a:off x="2032920" y="404820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93880" y="41799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714760" y="4754520"/>
            <a:ext cx="4241160" cy="398880"/>
            <a:chOff x="2714760" y="4754520"/>
            <a:chExt cx="4241160" cy="398880"/>
          </a:xfrm>
        </p:grpSpPr>
        <p:sp>
          <p:nvSpPr>
            <p:cNvPr id="802" name=""/>
            <p:cNvSpPr/>
            <p:nvPr/>
          </p:nvSpPr>
          <p:spPr>
            <a:xfrm>
              <a:off x="2951640" y="475452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714760" y="4886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>
            <a:stCxn id="805" idx="2"/>
            <a:endCxn id="803" idx="2"/>
          </p:cNvCxnSpPr>
          <p:nvPr/>
        </p:nvCxnSpPr>
        <p:spPr>
          <a:xfrm flipH="1" rot="16200000">
            <a:off x="2270520" y="4565160"/>
            <a:ext cx="50868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06" name=""/>
          <p:cNvGrpSpPr/>
          <p:nvPr/>
        </p:nvGrpSpPr>
        <p:grpSpPr>
          <a:xfrm>
            <a:off x="2714760" y="5289480"/>
            <a:ext cx="3306960" cy="398880"/>
            <a:chOff x="2714760" y="5289480"/>
            <a:chExt cx="3306960" cy="398880"/>
          </a:xfrm>
        </p:grpSpPr>
        <p:sp>
          <p:nvSpPr>
            <p:cNvPr id="807" name=""/>
            <p:cNvSpPr/>
            <p:nvPr/>
          </p:nvSpPr>
          <p:spPr>
            <a:xfrm>
              <a:off x="2951640" y="5289480"/>
              <a:ext cx="3070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714760" y="54212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5" idx="2"/>
            <a:endCxn id="808" idx="2"/>
          </p:cNvCxnSpPr>
          <p:nvPr/>
        </p:nvCxnSpPr>
        <p:spPr>
          <a:xfrm flipH="1" rot="16200000">
            <a:off x="2003040" y="4832640"/>
            <a:ext cx="104364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1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17440" y="45594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335560" y="476100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714760" y="5808600"/>
            <a:ext cx="3732840" cy="398880"/>
            <a:chOff x="2714760" y="5808600"/>
            <a:chExt cx="3732840" cy="398880"/>
          </a:xfrm>
        </p:grpSpPr>
        <p:sp>
          <p:nvSpPr>
            <p:cNvPr id="814" name=""/>
            <p:cNvSpPr/>
            <p:nvPr/>
          </p:nvSpPr>
          <p:spPr>
            <a:xfrm>
              <a:off x="2950560" y="5808600"/>
              <a:ext cx="3497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pplied_load_static_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714760" y="59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6" name=""/>
          <p:cNvCxnSpPr>
            <a:stCxn id="783" idx="2"/>
            <a:endCxn id="800" idx="2"/>
          </p:cNvCxnSpPr>
          <p:nvPr/>
        </p:nvCxnSpPr>
        <p:spPr>
          <a:xfrm flipH="1" rot="16200000">
            <a:off x="158040" y="2666880"/>
            <a:ext cx="272952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2178000" y="4255920"/>
            <a:ext cx="37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7" name=""/>
          <p:cNvCxnSpPr>
            <a:stCxn id="805" idx="2"/>
            <a:endCxn id="815" idx="2"/>
          </p:cNvCxnSpPr>
          <p:nvPr/>
        </p:nvCxnSpPr>
        <p:spPr>
          <a:xfrm flipH="1" rot="16200000">
            <a:off x="1743480" y="5092200"/>
            <a:ext cx="1562760" cy="321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18" name=""/>
          <p:cNvGrpSpPr/>
          <p:nvPr/>
        </p:nvGrpSpPr>
        <p:grpSpPr>
          <a:xfrm>
            <a:off x="3017880" y="2222640"/>
            <a:ext cx="152280" cy="1788840"/>
            <a:chOff x="3017880" y="2222640"/>
            <a:chExt cx="152280" cy="1788840"/>
          </a:xfrm>
        </p:grpSpPr>
        <p:sp>
          <p:nvSpPr>
            <p:cNvPr id="819" name=""/>
            <p:cNvSpPr/>
            <p:nvPr/>
          </p:nvSpPr>
          <p:spPr>
            <a:xfrm>
              <a:off x="301788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308772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705040" y="2222640"/>
            <a:ext cx="152280" cy="1788840"/>
            <a:chOff x="2705040" y="2222640"/>
            <a:chExt cx="152280" cy="1788840"/>
          </a:xfrm>
        </p:grpSpPr>
        <p:sp>
          <p:nvSpPr>
            <p:cNvPr id="822" name=""/>
            <p:cNvSpPr/>
            <p:nvPr/>
          </p:nvSpPr>
          <p:spPr>
            <a:xfrm>
              <a:off x="270504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277488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392200" y="2222640"/>
            <a:ext cx="152280" cy="1788840"/>
            <a:chOff x="2392200" y="2222640"/>
            <a:chExt cx="152280" cy="1788840"/>
          </a:xfrm>
        </p:grpSpPr>
        <p:sp>
          <p:nvSpPr>
            <p:cNvPr id="825" name=""/>
            <p:cNvSpPr/>
            <p:nvPr/>
          </p:nvSpPr>
          <p:spPr>
            <a:xfrm>
              <a:off x="239220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246204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079720" y="2222640"/>
            <a:ext cx="152280" cy="1788840"/>
            <a:chOff x="2079720" y="2222640"/>
            <a:chExt cx="152280" cy="1788840"/>
          </a:xfrm>
        </p:grpSpPr>
        <p:sp>
          <p:nvSpPr>
            <p:cNvPr id="828" name=""/>
            <p:cNvSpPr/>
            <p:nvPr/>
          </p:nvSpPr>
          <p:spPr>
            <a:xfrm>
              <a:off x="2079720" y="3859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2149560" y="2222640"/>
              <a:ext cx="0" cy="1630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s (on element &amp; node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831" idx="2"/>
            <a:endCxn id="834" idx="2"/>
          </p:cNvCxnSpPr>
          <p:nvPr/>
        </p:nvCxnSpPr>
        <p:spPr>
          <a:xfrm flipH="1" rot="16200000">
            <a:off x="4257000" y="698760"/>
            <a:ext cx="356040" cy="33170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5" name=""/>
          <p:cNvSpPr/>
          <p:nvPr/>
        </p:nvSpPr>
        <p:spPr>
          <a:xfrm>
            <a:off x="3867120" y="311472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8080" y="45896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84680" y="464652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>
            <a:stCxn id="839" idx="2"/>
            <a:endCxn id="840" idx="2"/>
          </p:cNvCxnSpPr>
          <p:nvPr/>
        </p:nvCxnSpPr>
        <p:spPr>
          <a:xfrm flipH="1" rot="16200000">
            <a:off x="2769120" y="3495240"/>
            <a:ext cx="553320" cy="315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1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522160" y="35067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78360" y="4818240"/>
            <a:ext cx="28908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4" name=""/>
          <p:cNvCxnSpPr>
            <a:stCxn id="832" idx="2"/>
            <a:endCxn id="845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39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49" name=""/>
          <p:cNvCxnSpPr>
            <a:stCxn id="832" idx="2"/>
            <a:endCxn id="847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50" name=""/>
          <p:cNvSpPr/>
          <p:nvPr/>
        </p:nvSpPr>
        <p:spPr>
          <a:xfrm>
            <a:off x="5893560" y="1708200"/>
            <a:ext cx="1625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lied_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1" name=""/>
          <p:cNvCxnSpPr>
            <a:stCxn id="831" idx="3"/>
            <a:endCxn id="852" idx="2"/>
          </p:cNvCxnSpPr>
          <p:nvPr/>
        </p:nvCxnSpPr>
        <p:spPr>
          <a:xfrm flipV="1">
            <a:off x="3490920" y="1942920"/>
            <a:ext cx="21852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3895920" y="1585800"/>
            <a:ext cx="13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689440" y="18669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287400" y="230364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107040" y="24591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655440" y="214776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218640" y="293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39" idx="3"/>
            <a:endCxn id="858" idx="2"/>
          </p:cNvCxnSpPr>
          <p:nvPr/>
        </p:nvCxnSpPr>
        <p:spPr>
          <a:xfrm>
            <a:off x="3772080" y="3149280"/>
            <a:ext cx="224208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59" name=""/>
          <p:cNvSpPr/>
          <p:nvPr/>
        </p:nvSpPr>
        <p:spPr>
          <a:xfrm>
            <a:off x="3820320" y="2795760"/>
            <a:ext cx="218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ppor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27840" y="3076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232080" y="3703680"/>
            <a:ext cx="3560760" cy="398880"/>
            <a:chOff x="3232080" y="3703680"/>
            <a:chExt cx="3560760" cy="398880"/>
          </a:xfrm>
        </p:grpSpPr>
        <p:sp>
          <p:nvSpPr>
            <p:cNvPr id="861" name=""/>
            <p:cNvSpPr/>
            <p:nvPr/>
          </p:nvSpPr>
          <p:spPr>
            <a:xfrm>
              <a:off x="3468240" y="3703680"/>
              <a:ext cx="3324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concent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32080" y="3835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241800" y="4272120"/>
            <a:ext cx="3263760" cy="398880"/>
            <a:chOff x="3241800" y="4272120"/>
            <a:chExt cx="3263760" cy="398880"/>
          </a:xfrm>
        </p:grpSpPr>
        <p:sp>
          <p:nvSpPr>
            <p:cNvPr id="863" name=""/>
            <p:cNvSpPr/>
            <p:nvPr/>
          </p:nvSpPr>
          <p:spPr>
            <a:xfrm>
              <a:off x="3479400" y="4272120"/>
              <a:ext cx="3026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41800" y="440352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39" idx="2"/>
            <a:endCxn id="864" idx="2"/>
          </p:cNvCxnSpPr>
          <p:nvPr/>
        </p:nvCxnSpPr>
        <p:spPr>
          <a:xfrm flipH="1" rot="16200000">
            <a:off x="2489760" y="3774960"/>
            <a:ext cx="1121760" cy="3243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6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749760" y="455148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012000" y="6040440"/>
            <a:ext cx="2746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9" name=""/>
          <p:cNvCxnSpPr>
            <a:stCxn id="867" idx="2"/>
            <a:endCxn id="870" idx="2"/>
          </p:cNvCxnSpPr>
          <p:nvPr/>
        </p:nvCxnSpPr>
        <p:spPr>
          <a:xfrm flipH="1" rot="16200000">
            <a:off x="3945600" y="4637880"/>
            <a:ext cx="52776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3520800" y="49006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105680" y="62118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4559400" y="4997520"/>
            <a:ext cx="4028040" cy="398880"/>
            <a:chOff x="4559400" y="4997520"/>
            <a:chExt cx="4028040" cy="398880"/>
          </a:xfrm>
        </p:grpSpPr>
        <p:sp>
          <p:nvSpPr>
            <p:cNvPr id="874" name=""/>
            <p:cNvSpPr/>
            <p:nvPr/>
          </p:nvSpPr>
          <p:spPr>
            <a:xfrm>
              <a:off x="4794840" y="4997520"/>
              <a:ext cx="3792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59400" y="5129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568760" y="5565600"/>
            <a:ext cx="4239720" cy="398880"/>
            <a:chOff x="4568760" y="5565600"/>
            <a:chExt cx="4239720" cy="398880"/>
          </a:xfrm>
        </p:grpSpPr>
        <p:sp>
          <p:nvSpPr>
            <p:cNvPr id="876" name=""/>
            <p:cNvSpPr/>
            <p:nvPr/>
          </p:nvSpPr>
          <p:spPr>
            <a:xfrm>
              <a:off x="4804200" y="5565600"/>
              <a:ext cx="4004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_distributed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68760" y="5697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8" name=""/>
          <p:cNvCxnSpPr>
            <a:stCxn id="867" idx="2"/>
            <a:endCxn id="877" idx="2"/>
          </p:cNvCxnSpPr>
          <p:nvPr/>
        </p:nvCxnSpPr>
        <p:spPr>
          <a:xfrm flipH="1" rot="16200000">
            <a:off x="3665160" y="4916880"/>
            <a:ext cx="1096200" cy="653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oading Combin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90880" y="1739880"/>
            <a:ext cx="1370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50680" y="919080"/>
            <a:ext cx="858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2" name=""/>
          <p:cNvCxnSpPr>
            <a:stCxn id="881" idx="2"/>
            <a:endCxn id="883" idx="2"/>
          </p:cNvCxnSpPr>
          <p:nvPr/>
        </p:nvCxnSpPr>
        <p:spPr>
          <a:xfrm flipH="1" rot="16200000">
            <a:off x="772920" y="2170440"/>
            <a:ext cx="1499400" cy="484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4" name=""/>
          <p:cNvSpPr/>
          <p:nvPr/>
        </p:nvSpPr>
        <p:spPr>
          <a:xfrm>
            <a:off x="2178000" y="314496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85256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793880" y="2936880"/>
            <a:ext cx="1949040" cy="398880"/>
            <a:chOff x="1793880" y="2936880"/>
            <a:chExt cx="1949040" cy="398880"/>
          </a:xfrm>
        </p:grpSpPr>
        <p:sp>
          <p:nvSpPr>
            <p:cNvPr id="887" name=""/>
            <p:cNvSpPr/>
            <p:nvPr/>
          </p:nvSpPr>
          <p:spPr>
            <a:xfrm>
              <a:off x="2033640" y="2936880"/>
              <a:ext cx="1709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oad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793880" y="306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8" name=""/>
          <p:cNvCxnSpPr>
            <a:stCxn id="881" idx="2"/>
            <a:endCxn id="885" idx="2"/>
          </p:cNvCxnSpPr>
          <p:nvPr/>
        </p:nvCxnSpPr>
        <p:spPr>
          <a:xfrm flipH="1" rot="16200000">
            <a:off x="1409760" y="1534680"/>
            <a:ext cx="286560" cy="5436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89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195520" y="10746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"/>
          <p:cNvCxnSpPr>
            <a:stCxn id="881" idx="3"/>
            <a:endCxn id="892" idx="2"/>
          </p:cNvCxnSpPr>
          <p:nvPr/>
        </p:nvCxnSpPr>
        <p:spPr>
          <a:xfrm flipV="1">
            <a:off x="1739880" y="1278720"/>
            <a:ext cx="324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3" name=""/>
          <p:cNvSpPr/>
          <p:nvPr/>
        </p:nvSpPr>
        <p:spPr>
          <a:xfrm>
            <a:off x="2370960" y="835200"/>
            <a:ext cx="199188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load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998960" y="1203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059360" y="4287960"/>
            <a:ext cx="3582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ombination_occur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693480" y="2444760"/>
            <a:ext cx="1924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_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70800" y="2257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04760" y="565956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3"/>
            <a:endCxn id="896" idx="0"/>
          </p:cNvCxnSpPr>
          <p:nvPr/>
        </p:nvCxnSpPr>
        <p:spPr>
          <a:xfrm>
            <a:off x="6567120" y="1287000"/>
            <a:ext cx="1080360" cy="956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0" name=""/>
          <p:cNvSpPr/>
          <p:nvPr/>
        </p:nvSpPr>
        <p:spPr>
          <a:xfrm>
            <a:off x="5778360" y="1521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76920" y="54687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>
            <a:stCxn id="894" idx="0"/>
            <a:endCxn id="900" idx="4"/>
          </p:cNvCxnSpPr>
          <p:nvPr/>
        </p:nvCxnSpPr>
        <p:spPr>
          <a:xfrm flipH="1" flipV="1" rot="5400000">
            <a:off x="4559760" y="2978280"/>
            <a:ext cx="2586600" cy="3960"/>
          </a:xfrm>
          <a:prstGeom prst="bentConnector3">
            <a:avLst>
              <a:gd name="adj1" fmla="val 4995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3" name=""/>
          <p:cNvCxnSpPr>
            <a:stCxn id="901" idx="0"/>
            <a:endCxn id="894" idx="2"/>
          </p:cNvCxnSpPr>
          <p:nvPr/>
        </p:nvCxnSpPr>
        <p:spPr>
          <a:xfrm flipV="1" rot="16200000">
            <a:off x="5488200" y="5090040"/>
            <a:ext cx="727560" cy="25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04" name=""/>
          <p:cNvSpPr/>
          <p:nvPr/>
        </p:nvSpPr>
        <p:spPr>
          <a:xfrm>
            <a:off x="6753240" y="90792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var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89280" y="3578400"/>
            <a:ext cx="247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46440" y="4987800"/>
            <a:ext cx="304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loading_comb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2600" y="56386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43240" y="58006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9" name=""/>
          <p:cNvCxnSpPr>
            <a:stCxn id="908" idx="6"/>
            <a:endCxn id="898" idx="1"/>
          </p:cNvCxnSpPr>
          <p:nvPr/>
        </p:nvCxnSpPr>
        <p:spPr>
          <a:xfrm flipV="1">
            <a:off x="2509560" y="5871600"/>
            <a:ext cx="2067120" cy="5400"/>
          </a:xfrm>
          <a:prstGeom prst="bentConnector3">
            <a:avLst>
              <a:gd name="adj1" fmla="val 49991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910" name=""/>
          <p:cNvSpPr/>
          <p:nvPr/>
        </p:nvSpPr>
        <p:spPr>
          <a:xfrm>
            <a:off x="2771280" y="5483160"/>
            <a:ext cx="161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ed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913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a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088720" y="1797120"/>
            <a:ext cx="2178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852560" y="19270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41240" y="990720"/>
            <a:ext cx="10875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9" name=""/>
          <p:cNvCxnSpPr>
            <a:stCxn id="918" idx="2"/>
            <a:endCxn id="917" idx="2"/>
          </p:cNvCxnSpPr>
          <p:nvPr/>
        </p:nvCxnSpPr>
        <p:spPr>
          <a:xfrm flipH="1" rot="16200000">
            <a:off x="1411200" y="1608840"/>
            <a:ext cx="2865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0" name=""/>
          <p:cNvSpPr/>
          <p:nvPr/>
        </p:nvSpPr>
        <p:spPr>
          <a:xfrm>
            <a:off x="720360" y="1741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52560" y="2401920"/>
            <a:ext cx="2317680" cy="398880"/>
            <a:chOff x="1852560" y="2401920"/>
            <a:chExt cx="2317680" cy="398880"/>
          </a:xfrm>
        </p:grpSpPr>
        <p:sp>
          <p:nvSpPr>
            <p:cNvPr id="922" name=""/>
            <p:cNvSpPr/>
            <p:nvPr/>
          </p:nvSpPr>
          <p:spPr>
            <a:xfrm>
              <a:off x="2090520" y="2401920"/>
              <a:ext cx="2079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velo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52560" y="253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4" name=""/>
          <p:cNvCxnSpPr>
            <a:stCxn id="918" idx="2"/>
            <a:endCxn id="923" idx="2"/>
          </p:cNvCxnSpPr>
          <p:nvPr/>
        </p:nvCxnSpPr>
        <p:spPr>
          <a:xfrm flipH="1" rot="16200000">
            <a:off x="1108080" y="1911960"/>
            <a:ext cx="89280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5" name=""/>
          <p:cNvGrpSpPr/>
          <p:nvPr/>
        </p:nvGrpSpPr>
        <p:grpSpPr>
          <a:xfrm>
            <a:off x="1852560" y="2949480"/>
            <a:ext cx="2840760" cy="398880"/>
            <a:chOff x="1852560" y="2949480"/>
            <a:chExt cx="2840760" cy="398880"/>
          </a:xfrm>
        </p:grpSpPr>
        <p:sp>
          <p:nvSpPr>
            <p:cNvPr id="926" name=""/>
            <p:cNvSpPr/>
            <p:nvPr/>
          </p:nvSpPr>
          <p:spPr>
            <a:xfrm>
              <a:off x="2089440" y="2949480"/>
              <a:ext cx="260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accel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52560" y="3081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18" idx="2"/>
            <a:endCxn id="927" idx="2"/>
          </p:cNvCxnSpPr>
          <p:nvPr/>
        </p:nvCxnSpPr>
        <p:spPr>
          <a:xfrm flipH="1" rot="16200000">
            <a:off x="834120" y="2185560"/>
            <a:ext cx="1440360" cy="538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29" name=""/>
          <p:cNvSpPr/>
          <p:nvPr/>
        </p:nvSpPr>
        <p:spPr>
          <a:xfrm>
            <a:off x="1457280" y="25383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376440" y="34066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73720" y="2408400"/>
            <a:ext cx="2887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849320" y="3571920"/>
            <a:ext cx="2967480" cy="398880"/>
            <a:chOff x="1849320" y="3571920"/>
            <a:chExt cx="2967480" cy="398880"/>
          </a:xfrm>
        </p:grpSpPr>
        <p:sp>
          <p:nvSpPr>
            <p:cNvPr id="933" name=""/>
            <p:cNvSpPr/>
            <p:nvPr/>
          </p:nvSpPr>
          <p:spPr>
            <a:xfrm>
              <a:off x="2086560" y="357192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dis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49320" y="37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5" name=""/>
          <p:cNvCxnSpPr>
            <a:stCxn id="918" idx="2"/>
            <a:endCxn id="934" idx="2"/>
          </p:cNvCxnSpPr>
          <p:nvPr/>
        </p:nvCxnSpPr>
        <p:spPr>
          <a:xfrm flipH="1" rot="16200000">
            <a:off x="522360" y="2498400"/>
            <a:ext cx="206244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36" name=""/>
          <p:cNvGrpSpPr/>
          <p:nvPr/>
        </p:nvGrpSpPr>
        <p:grpSpPr>
          <a:xfrm>
            <a:off x="1849320" y="4106880"/>
            <a:ext cx="2033640" cy="398880"/>
            <a:chOff x="1849320" y="4106880"/>
            <a:chExt cx="2033640" cy="398880"/>
          </a:xfrm>
        </p:grpSpPr>
        <p:sp>
          <p:nvSpPr>
            <p:cNvPr id="937" name=""/>
            <p:cNvSpPr/>
            <p:nvPr/>
          </p:nvSpPr>
          <p:spPr>
            <a:xfrm>
              <a:off x="2086920" y="4106880"/>
              <a:ext cx="1796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fo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849320" y="4238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18" idx="2"/>
            <a:endCxn id="938" idx="2"/>
          </p:cNvCxnSpPr>
          <p:nvPr/>
        </p:nvCxnSpPr>
        <p:spPr>
          <a:xfrm flipH="1" rot="16200000">
            <a:off x="254880" y="2765880"/>
            <a:ext cx="259776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40" name=""/>
          <p:cNvSpPr/>
          <p:nvPr/>
        </p:nvSpPr>
        <p:spPr>
          <a:xfrm>
            <a:off x="1384200" y="4227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470480" y="3578400"/>
            <a:ext cx="288720" cy="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849320" y="4626000"/>
            <a:ext cx="2699280" cy="398880"/>
            <a:chOff x="1849320" y="4626000"/>
            <a:chExt cx="2699280" cy="398880"/>
          </a:xfrm>
        </p:grpSpPr>
        <p:sp>
          <p:nvSpPr>
            <p:cNvPr id="943" name=""/>
            <p:cNvSpPr/>
            <p:nvPr/>
          </p:nvSpPr>
          <p:spPr>
            <a:xfrm>
              <a:off x="2088000" y="4626000"/>
              <a:ext cx="2460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action_equilibr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849320" y="4757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45" name=""/>
          <p:cNvCxnSpPr>
            <a:stCxn id="918" idx="2"/>
            <a:endCxn id="944" idx="2"/>
          </p:cNvCxnSpPr>
          <p:nvPr/>
        </p:nvCxnSpPr>
        <p:spPr>
          <a:xfrm flipH="1" rot="16200000">
            <a:off x="-4680" y="3025440"/>
            <a:ext cx="3116880" cy="5356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004840" y="1739880"/>
            <a:ext cx="2673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7760" y="1104840"/>
            <a:ext cx="1867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2"/>
            <a:endCxn id="950" idx="2"/>
          </p:cNvCxnSpPr>
          <p:nvPr/>
        </p:nvCxnSpPr>
        <p:spPr>
          <a:xfrm flipH="1" rot="16200000">
            <a:off x="4752720" y="767160"/>
            <a:ext cx="456120" cy="3280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51" name=""/>
          <p:cNvSpPr/>
          <p:nvPr/>
        </p:nvSpPr>
        <p:spPr>
          <a:xfrm>
            <a:off x="3867120" y="330048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2" name=""/>
          <p:cNvCxnSpPr>
            <a:stCxn id="948" idx="2"/>
            <a:endCxn id="953" idx="2"/>
          </p:cNvCxnSpPr>
          <p:nvPr/>
        </p:nvCxnSpPr>
        <p:spPr>
          <a:xfrm flipH="1" rot="16200000">
            <a:off x="621360" y="2204640"/>
            <a:ext cx="1803960" cy="483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4" name=""/>
          <p:cNvSpPr/>
          <p:nvPr/>
        </p:nvSpPr>
        <p:spPr>
          <a:xfrm>
            <a:off x="2178000" y="3330720"/>
            <a:ext cx="37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781280" y="18558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019240" y="3122640"/>
            <a:ext cx="19670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_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793880" y="325440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7" name=""/>
          <p:cNvCxnSpPr>
            <a:stCxn id="948" idx="2"/>
            <a:endCxn id="955" idx="2"/>
          </p:cNvCxnSpPr>
          <p:nvPr/>
        </p:nvCxnSpPr>
        <p:spPr>
          <a:xfrm flipH="1" rot="16200000">
            <a:off x="1314360" y="1512000"/>
            <a:ext cx="405360" cy="470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58" name=""/>
          <p:cNvSpPr/>
          <p:nvPr/>
        </p:nvSpPr>
        <p:spPr>
          <a:xfrm>
            <a:off x="6694200" y="17082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9" name=""/>
          <p:cNvCxnSpPr>
            <a:stCxn id="947" idx="3"/>
            <a:endCxn id="960" idx="2"/>
          </p:cNvCxnSpPr>
          <p:nvPr/>
        </p:nvCxnSpPr>
        <p:spPr>
          <a:xfrm flipV="1">
            <a:off x="4692600" y="1942920"/>
            <a:ext cx="18151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1" name=""/>
          <p:cNvSpPr/>
          <p:nvPr/>
        </p:nvSpPr>
        <p:spPr>
          <a:xfrm>
            <a:off x="2870640" y="93816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s_for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21400" y="18669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815880" y="240336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35880" y="25588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232520" y="2276640"/>
            <a:ext cx="17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5240" y="309096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5" name=""/>
          <p:cNvCxnSpPr>
            <a:stCxn id="956" idx="3"/>
            <a:endCxn id="966" idx="2"/>
          </p:cNvCxnSpPr>
          <p:nvPr/>
        </p:nvCxnSpPr>
        <p:spPr>
          <a:xfrm flipV="1">
            <a:off x="4000320" y="3482280"/>
            <a:ext cx="2788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4092120" y="3124080"/>
            <a:ext cx="270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for_element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02560" y="34066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84888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058080" y="110664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0" name=""/>
          <p:cNvCxnSpPr>
            <a:stCxn id="948" idx="3"/>
            <a:endCxn id="971" idx="2"/>
          </p:cNvCxnSpPr>
          <p:nvPr/>
        </p:nvCxnSpPr>
        <p:spPr>
          <a:xfrm>
            <a:off x="2243160" y="1317240"/>
            <a:ext cx="36028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1" name=""/>
          <p:cNvSpPr/>
          <p:nvPr/>
        </p:nvSpPr>
        <p:spPr>
          <a:xfrm>
            <a:off x="5859360" y="12463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94200" y="158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013120" y="4232160"/>
            <a:ext cx="2977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08280" y="4524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5" name=""/>
          <p:cNvCxnSpPr>
            <a:stCxn id="948" idx="2"/>
            <a:endCxn id="974" idx="2"/>
          </p:cNvCxnSpPr>
          <p:nvPr/>
        </p:nvCxnSpPr>
        <p:spPr>
          <a:xfrm flipH="1" rot="16200000">
            <a:off x="-5760" y="2832480"/>
            <a:ext cx="3074040" cy="497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(Element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77" name=""/>
          <p:cNvGrpSpPr/>
          <p:nvPr/>
        </p:nvGrpSpPr>
        <p:grpSpPr>
          <a:xfrm>
            <a:off x="1403280" y="3368520"/>
            <a:ext cx="3916080" cy="398880"/>
            <a:chOff x="1403280" y="3368520"/>
            <a:chExt cx="3916080" cy="398880"/>
          </a:xfrm>
        </p:grpSpPr>
        <p:sp>
          <p:nvSpPr>
            <p:cNvPr id="978" name=""/>
            <p:cNvSpPr/>
            <p:nvPr/>
          </p:nvSpPr>
          <p:spPr>
            <a:xfrm>
              <a:off x="1638000" y="3368520"/>
              <a:ext cx="368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1403280" y="5778360"/>
            <a:ext cx="4114080" cy="413280"/>
            <a:chOff x="1403280" y="5778360"/>
            <a:chExt cx="4114080" cy="413280"/>
          </a:xfrm>
        </p:grpSpPr>
        <p:sp>
          <p:nvSpPr>
            <p:cNvPr id="981" name=""/>
            <p:cNvSpPr/>
            <p:nvPr/>
          </p:nvSpPr>
          <p:spPr>
            <a:xfrm>
              <a:off x="1639440" y="5792760"/>
              <a:ext cx="3877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40328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52764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1403280" y="4573440"/>
            <a:ext cx="4113360" cy="398880"/>
            <a:chOff x="1403280" y="4573440"/>
            <a:chExt cx="4113360" cy="398880"/>
          </a:xfrm>
        </p:grpSpPr>
        <p:sp>
          <p:nvSpPr>
            <p:cNvPr id="985" name=""/>
            <p:cNvSpPr/>
            <p:nvPr/>
          </p:nvSpPr>
          <p:spPr>
            <a:xfrm>
              <a:off x="1623600" y="4573440"/>
              <a:ext cx="38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432080" y="2165400"/>
            <a:ext cx="3844800" cy="398880"/>
            <a:chOff x="1432080" y="2165400"/>
            <a:chExt cx="3844800" cy="398880"/>
          </a:xfrm>
        </p:grpSpPr>
        <p:sp>
          <p:nvSpPr>
            <p:cNvPr id="988" name=""/>
            <p:cNvSpPr/>
            <p:nvPr/>
          </p:nvSpPr>
          <p:spPr>
            <a:xfrm>
              <a:off x="1668600" y="2165400"/>
              <a:ext cx="3608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_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3208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37960" y="982800"/>
            <a:ext cx="2978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1" name=""/>
          <p:cNvCxnSpPr>
            <a:stCxn id="992" idx="2"/>
            <a:endCxn id="979" idx="2"/>
          </p:cNvCxnSpPr>
          <p:nvPr/>
        </p:nvCxnSpPr>
        <p:spPr>
          <a:xfrm flipH="1" rot="16200000">
            <a:off x="167040" y="2387160"/>
            <a:ext cx="187740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3" name=""/>
          <p:cNvCxnSpPr>
            <a:stCxn id="992" idx="2"/>
            <a:endCxn id="982" idx="2"/>
          </p:cNvCxnSpPr>
          <p:nvPr/>
        </p:nvCxnSpPr>
        <p:spPr>
          <a:xfrm flipH="1" rot="16200000">
            <a:off x="-1051920" y="3606480"/>
            <a:ext cx="431568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4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5" name=""/>
          <p:cNvCxnSpPr>
            <a:stCxn id="992" idx="2"/>
            <a:endCxn id="986" idx="2"/>
          </p:cNvCxnSpPr>
          <p:nvPr/>
        </p:nvCxnSpPr>
        <p:spPr>
          <a:xfrm flipH="1" rot="16200000">
            <a:off x="-435240" y="2989800"/>
            <a:ext cx="3082320" cy="5374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96" name=""/>
          <p:cNvCxnSpPr>
            <a:stCxn id="992" idx="2"/>
            <a:endCxn id="989" idx="2"/>
          </p:cNvCxnSpPr>
          <p:nvPr/>
        </p:nvCxnSpPr>
        <p:spPr>
          <a:xfrm flipH="1" rot="16200000">
            <a:off x="784080" y="1771200"/>
            <a:ext cx="673920" cy="565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92" name=""/>
          <p:cNvSpPr/>
          <p:nvPr/>
        </p:nvSpPr>
        <p:spPr>
          <a:xfrm>
            <a:off x="649440" y="141444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416720" y="332424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78" idx="3"/>
            <a:endCxn id="999" idx="2"/>
          </p:cNvCxnSpPr>
          <p:nvPr/>
        </p:nvCxnSpPr>
        <p:spPr>
          <a:xfrm flipV="1">
            <a:off x="5343120" y="3558600"/>
            <a:ext cx="1886760" cy="22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7243920" y="34830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573520" y="321480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648200" y="2152800"/>
            <a:ext cx="108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2" name=""/>
          <p:cNvCxnSpPr>
            <a:stCxn id="988" idx="3"/>
            <a:endCxn id="1003" idx="2"/>
          </p:cNvCxnSpPr>
          <p:nvPr/>
        </p:nvCxnSpPr>
        <p:spPr>
          <a:xfrm>
            <a:off x="5302080" y="2378160"/>
            <a:ext cx="216000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3" name=""/>
          <p:cNvSpPr/>
          <p:nvPr/>
        </p:nvSpPr>
        <p:spPr>
          <a:xfrm>
            <a:off x="7475400" y="2311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591160" y="198612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ult_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Results Set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300320" y="3025800"/>
            <a:ext cx="20970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_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074600" y="32860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1074600" y="5778360"/>
            <a:ext cx="4255560" cy="413280"/>
            <a:chOff x="1074600" y="5778360"/>
            <a:chExt cx="4255560" cy="413280"/>
          </a:xfrm>
        </p:grpSpPr>
        <p:sp>
          <p:nvSpPr>
            <p:cNvPr id="1009" name=""/>
            <p:cNvSpPr/>
            <p:nvPr/>
          </p:nvSpPr>
          <p:spPr>
            <a:xfrm>
              <a:off x="1308960" y="5792760"/>
              <a:ext cx="4021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redistribu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074600" y="59389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8960" y="5778360"/>
              <a:ext cx="15876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1074600" y="4573440"/>
            <a:ext cx="3875040" cy="398880"/>
            <a:chOff x="1074600" y="4573440"/>
            <a:chExt cx="3875040" cy="398880"/>
          </a:xfrm>
        </p:grpSpPr>
        <p:sp>
          <p:nvSpPr>
            <p:cNvPr id="1013" name=""/>
            <p:cNvSpPr/>
            <p:nvPr/>
          </p:nvSpPr>
          <p:spPr>
            <a:xfrm>
              <a:off x="1295640" y="4573440"/>
              <a:ext cx="3654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envel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07460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103400" y="2165400"/>
            <a:ext cx="3450600" cy="398880"/>
            <a:chOff x="1103400" y="2165400"/>
            <a:chExt cx="3450600" cy="398880"/>
          </a:xfrm>
        </p:grpSpPr>
        <p:sp>
          <p:nvSpPr>
            <p:cNvPr id="1016" name=""/>
            <p:cNvSpPr/>
            <p:nvPr/>
          </p:nvSpPr>
          <p:spPr>
            <a:xfrm>
              <a:off x="1338840" y="2165400"/>
              <a:ext cx="32151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nalysis_results_set_bas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103400" y="2297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37960" y="982800"/>
            <a:ext cx="2560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s_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9" name=""/>
          <p:cNvCxnSpPr>
            <a:stCxn id="1020" idx="2"/>
            <a:endCxn id="1007" idx="2"/>
          </p:cNvCxnSpPr>
          <p:nvPr/>
        </p:nvCxnSpPr>
        <p:spPr>
          <a:xfrm flipH="1" rot="16200000">
            <a:off x="-38880" y="2294280"/>
            <a:ext cx="196272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1" name=""/>
          <p:cNvCxnSpPr>
            <a:stCxn id="1020" idx="2"/>
            <a:endCxn id="1010" idx="2"/>
          </p:cNvCxnSpPr>
          <p:nvPr/>
        </p:nvCxnSpPr>
        <p:spPr>
          <a:xfrm flipH="1" rot="16200000">
            <a:off x="-1365480" y="3620520"/>
            <a:ext cx="461556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2" name=""/>
          <p:cNvSpPr/>
          <p:nvPr/>
        </p:nvSpPr>
        <p:spPr>
          <a:xfrm>
            <a:off x="360000" y="181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3" name=""/>
          <p:cNvCxnSpPr>
            <a:stCxn id="1020" idx="2"/>
            <a:endCxn id="1014" idx="2"/>
          </p:cNvCxnSpPr>
          <p:nvPr/>
        </p:nvCxnSpPr>
        <p:spPr>
          <a:xfrm flipH="1" rot="16200000">
            <a:off x="-748800" y="3003840"/>
            <a:ext cx="3382200" cy="2088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24" name=""/>
          <p:cNvCxnSpPr>
            <a:stCxn id="1020" idx="2"/>
            <a:endCxn id="1017" idx="2"/>
          </p:cNvCxnSpPr>
          <p:nvPr/>
        </p:nvCxnSpPr>
        <p:spPr>
          <a:xfrm flipH="1" rot="16200000">
            <a:off x="468720" y="1785600"/>
            <a:ext cx="973800" cy="237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0" name=""/>
          <p:cNvSpPr/>
          <p:nvPr/>
        </p:nvSpPr>
        <p:spPr>
          <a:xfrm>
            <a:off x="649440" y="1114560"/>
            <a:ext cx="3762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382800" y="3166920"/>
            <a:ext cx="2517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ing_comb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06" idx="3"/>
            <a:endCxn id="1027" idx="2"/>
          </p:cNvCxnSpPr>
          <p:nvPr/>
        </p:nvCxnSpPr>
        <p:spPr>
          <a:xfrm flipV="1">
            <a:off x="3411000" y="3386880"/>
            <a:ext cx="27536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27" name=""/>
          <p:cNvSpPr/>
          <p:nvPr/>
        </p:nvSpPr>
        <p:spPr>
          <a:xfrm>
            <a:off x="6178680" y="3311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458160" y="3011400"/>
            <a:ext cx="26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ading_combination_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24360" y="2152800"/>
            <a:ext cx="1343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_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>
            <a:stCxn id="1016" idx="3"/>
            <a:endCxn id="1031" idx="2"/>
          </p:cNvCxnSpPr>
          <p:nvPr/>
        </p:nvCxnSpPr>
        <p:spPr>
          <a:xfrm>
            <a:off x="4578120" y="2378160"/>
            <a:ext cx="27262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7318440" y="2311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920480" y="1986120"/>
            <a:ext cx="18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asic_load_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673680" y="982800"/>
            <a:ext cx="20275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18" idx="3"/>
            <a:endCxn id="1035" idx="2"/>
          </p:cNvCxnSpPr>
          <p:nvPr/>
        </p:nvCxnSpPr>
        <p:spPr>
          <a:xfrm>
            <a:off x="2813040" y="1195560"/>
            <a:ext cx="368064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5" name=""/>
          <p:cNvSpPr/>
          <p:nvPr/>
        </p:nvSpPr>
        <p:spPr>
          <a:xfrm>
            <a:off x="6507000" y="11286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368160" y="831960"/>
            <a:ext cx="283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results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7" name=""/>
          <p:cNvCxnSpPr>
            <a:stCxn id="1038" idx="4"/>
            <a:endCxn id="1013" idx="0"/>
          </p:cNvCxnSpPr>
          <p:nvPr/>
        </p:nvCxnSpPr>
        <p:spPr>
          <a:xfrm flipH="1" rot="16200000">
            <a:off x="2394720" y="3831120"/>
            <a:ext cx="619920" cy="837360"/>
          </a:xfrm>
          <a:prstGeom prst="bentConnector3">
            <a:avLst>
              <a:gd name="adj1" fmla="val 4997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039" name=""/>
          <p:cNvSpPr/>
          <p:nvPr/>
        </p:nvSpPr>
        <p:spPr>
          <a:xfrm>
            <a:off x="2414520" y="387828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209680" y="3773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480" y="1098360"/>
            <a:ext cx="838836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nalysis Model information is contained primarily in 3 of the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65680" y="2044800"/>
            <a:ext cx="40384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b2b2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9440" y="2928960"/>
            <a:ext cx="3767040" cy="13143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962000" y="2755800"/>
            <a:ext cx="3318120" cy="2741040"/>
            <a:chOff x="1962000" y="2755800"/>
            <a:chExt cx="3318120" cy="2741040"/>
          </a:xfrm>
        </p:grpSpPr>
        <p:sp>
          <p:nvSpPr>
            <p:cNvPr id="146" name=""/>
            <p:cNvSpPr/>
            <p:nvPr/>
          </p:nvSpPr>
          <p:spPr>
            <a:xfrm flipH="1">
              <a:off x="4430520" y="2755800"/>
              <a:ext cx="820440" cy="27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444920" y="317304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59320" y="3504960"/>
              <a:ext cx="820800" cy="274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962000" y="4314240"/>
              <a:ext cx="0" cy="1182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44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 (Analysis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oading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660240" indent="-660240">
              <a:spcBef>
                <a:spcPts val="11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Structural Respons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5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6680" y="880920"/>
            <a:ext cx="8658360" cy="21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Arial"/>
              </a:rPr>
              <a:t>LPM/5: </a:t>
            </a:r>
            <a:br>
              <a:rPr sz="7200"/>
            </a:br>
            <a:r>
              <a:rPr b="1" lang="en-GB" sz="6600" spc="-1" strike="noStrike">
                <a:solidFill>
                  <a:srgbClr val="ffff00"/>
                </a:solidFill>
                <a:latin typeface="Arial"/>
              </a:rPr>
              <a:t>Structural Modelling</a:t>
            </a:r>
            <a:endParaRPr b="1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159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7" idx="0"/>
            <a:endCxn id="16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6" idx="0"/>
            <a:endCxn id="16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73" idx="2"/>
            <a:endCxn id="176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8" name="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4" idx="0"/>
            <a:endCxn id="178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3"/>
            <a:endCxn id="182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82" name="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6" name=""/>
          <p:cNvCxnSpPr>
            <a:stCxn id="173" idx="3"/>
            <a:endCxn id="187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91" idx="2"/>
            <a:endCxn id="189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91" name="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8" idx="2"/>
            <a:endCxn id="194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8" idx="2"/>
            <a:endCxn id="197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88" idx="2"/>
            <a:endCxn id="200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203" idx="3"/>
            <a:endCxn id="205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0"/>
            <a:endCxn id="208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0" name="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534160" cy="5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85840" y="1098360"/>
            <a:ext cx="8572320" cy="50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0 = ANALYSIS_MODEL ('example analysis model', $, .PLANE_FRAME., #101, 2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4520" y="85248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dcterms:modified xsi:type="dcterms:W3CDTF">1999-06-22T23:49:41Z</dcterms:modified>
  <cp:revision>95</cp:revision>
  <dc:subject/>
  <dc:title>No Slide Title</dc:title>
</cp:coreProperties>
</file>